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D826-0A9B-48A7-B928-04518F9AD7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ведение в информа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A8D1-7546-44E3-B319-3A080B9220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просы для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нятие об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.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. Предмет информа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4. Виды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5. Хранение цифровой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6. От битов к бай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7. От байтов к фай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3511-548E-4E3F-A463-6B8A379B5B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Что такое информ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форм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ведения, которые человек получает в общении с природой и общество с помощью своих органов чув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3FD2-A47E-44EB-83FB-970D876C9B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войств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F408-08F0-4520-A1DE-50BB850F7B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мет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форма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техническая наука, систематизирующая приемы создания, хранения, обработки и передачи информации средствами вычислительной техники, а также принципы функционирования этих средств и методы управления 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7689-FA90-4A4B-B6BF-DAE36DB483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иды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4AFA-4BC1-4934-8D39-9D9F1AAD97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Хранение цифровой информ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Цифров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ранится в виде числового кода, который называется двои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информации, которая выражает логическое значение ДА или НЕТ и обозначается двоичным числом 1 или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56D7-338F-4F12-A6BD-CAA2D53192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 битов к бай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группа из </a:t>
            </a:r>
            <a:r>
              <a:rPr b="1" i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осьми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б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обработки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жно выразить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56 разных знач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Байт принимает значения от 0 до 25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930D-96EA-436B-B689-CEA67D63EA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 байтов к фай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ай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хранения информации, содержащая последовательность байтов и имеющая уникальное и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A27B-5778-4C0D-86E4-BB2696D6AC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1DE2-798B-4097-B40F-F8B227D7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39B-4E6F-4229-974C-63E649E2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35D-162A-49FA-AB07-08B7430B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A97-E936-4803-82F8-427FA74E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1C70-D2DD-414D-9A5A-3BF85DBA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CA84-83CF-4020-BFAD-C87EAE5C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2B1-01E9-4174-81AB-C13DB0FB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44EF-D351-4E91-B422-87BA681A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1E2-E37E-47DC-BDFE-7574E08F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175-377B-4B4D-8CE4-7E040B3C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BBC-8C93-4679-9791-86983F2E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E70D-0973-4A68-A783-492C8CD1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4C34-1CD7-4C42-AAD8-43636A13C3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38564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Введение в информати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aptop"/>
          <p:cNvSpPr/>
          <p:nvPr/>
        </p:nvSpPr>
        <p:spPr>
          <a:xfrm>
            <a:off x="2556000" y="3219480"/>
            <a:ext cx="4321080" cy="3249720"/>
          </a:xfrm>
          <a:custGeom>
            <a:avLst/>
            <a:gdLst>
              <a:gd name="textAreaLeft" fmla="*/ 889200 w 4321080"/>
              <a:gd name="textAreaRight" fmla="*/ 3463200 w 4321080"/>
              <a:gd name="textAreaTop" fmla="*/ 279360 h 3249720"/>
              <a:gd name="textAreaBottom" fmla="*/ 1854000 h 324972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опросы для рассмот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нятие об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войства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редмет информа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иды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Хранение цифрово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т битов к бай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От байтов к фай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Что такое информац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формац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сведения, которые человек получает в общении с природой и общество с помощью своих органов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войства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692360" y="1628640"/>
            <a:ext cx="597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формацию мо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324000" y="3357720"/>
            <a:ext cx="3095640" cy="122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з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1258920" y="5157720"/>
            <a:ext cx="30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е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4643280" y="5157720"/>
            <a:ext cx="31672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5292720" y="3284640"/>
            <a:ext cx="35640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рабат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 flipH="1">
            <a:off x="3635280" y="2565360"/>
            <a:ext cx="93672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4572000" y="2565360"/>
            <a:ext cx="79200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H="1">
            <a:off x="2843280" y="2565360"/>
            <a:ext cx="172872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4572000" y="2565360"/>
            <a:ext cx="1512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>
            <a:hlinkClick r:id="" action="ppaction://hlinkshowjump?jump=nextslide"/>
          </p:cNvPr>
          <p:cNvSpPr/>
          <p:nvPr/>
        </p:nvSpPr>
        <p:spPr>
          <a:xfrm>
            <a:off x="7380360" y="6093000"/>
            <a:ext cx="647640" cy="5029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11" h="21600">
                <a:moveTo>
                  <a:pt x="0" y="0"/>
                </a:moveTo>
                <a:lnTo>
                  <a:pt x="27811" y="0"/>
                </a:lnTo>
                <a:lnTo>
                  <a:pt x="27811" y="21600"/>
                </a:lnTo>
                <a:lnTo>
                  <a:pt x="0" y="21600"/>
                </a:lnTo>
                <a:close/>
              </a:path>
              <a:path fill="lightenLess" w="27811" h="21600">
                <a:moveTo>
                  <a:pt x="0" y="0"/>
                </a:moveTo>
                <a:lnTo>
                  <a:pt x="27811" y="0"/>
                </a:lnTo>
                <a:lnTo>
                  <a:pt x="26411" y="1400"/>
                </a:lnTo>
                <a:lnTo>
                  <a:pt x="1400" y="1400"/>
                </a:lnTo>
                <a:close/>
              </a:path>
              <a:path fill="darken" w="27811" h="21600">
                <a:moveTo>
                  <a:pt x="27811" y="0"/>
                </a:moveTo>
                <a:lnTo>
                  <a:pt x="27811" y="21600"/>
                </a:lnTo>
                <a:lnTo>
                  <a:pt x="26411" y="20200"/>
                </a:lnTo>
                <a:lnTo>
                  <a:pt x="26411" y="1400"/>
                </a:lnTo>
                <a:close/>
              </a:path>
              <a:path fill="darkenLess" w="27811" h="21600">
                <a:moveTo>
                  <a:pt x="27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11" y="20200"/>
                </a:lnTo>
                <a:close/>
              </a:path>
              <a:path fill="lighten" w="27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11" h="21600">
                <a:moveTo>
                  <a:pt x="6899" y="3794"/>
                </a:moveTo>
                <a:lnTo>
                  <a:pt x="20912" y="10800"/>
                </a:lnTo>
                <a:lnTo>
                  <a:pt x="689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>
            <a:hlinkClick r:id="rId1" action="ppaction://hlinksldjump"/>
          </p:cNvPr>
          <p:cNvSpPr/>
          <p:nvPr/>
        </p:nvSpPr>
        <p:spPr>
          <a:xfrm>
            <a:off x="8101080" y="6093000"/>
            <a:ext cx="576360" cy="5029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52" h="21600">
                <a:moveTo>
                  <a:pt x="0" y="0"/>
                </a:moveTo>
                <a:lnTo>
                  <a:pt x="24752" y="0"/>
                </a:lnTo>
                <a:lnTo>
                  <a:pt x="24752" y="21600"/>
                </a:lnTo>
                <a:lnTo>
                  <a:pt x="0" y="21600"/>
                </a:lnTo>
                <a:close/>
              </a:path>
              <a:path fill="lightenLess" w="24752" h="21600">
                <a:moveTo>
                  <a:pt x="0" y="0"/>
                </a:moveTo>
                <a:lnTo>
                  <a:pt x="24752" y="0"/>
                </a:lnTo>
                <a:lnTo>
                  <a:pt x="23352" y="1400"/>
                </a:lnTo>
                <a:lnTo>
                  <a:pt x="1400" y="1400"/>
                </a:lnTo>
                <a:close/>
              </a:path>
              <a:path fill="darken" w="24752" h="21600">
                <a:moveTo>
                  <a:pt x="24752" y="0"/>
                </a:moveTo>
                <a:lnTo>
                  <a:pt x="24752" y="21600"/>
                </a:lnTo>
                <a:lnTo>
                  <a:pt x="23352" y="20200"/>
                </a:lnTo>
                <a:lnTo>
                  <a:pt x="23352" y="1400"/>
                </a:lnTo>
                <a:close/>
              </a:path>
              <a:path fill="darkenLess" w="24752" h="21600">
                <a:moveTo>
                  <a:pt x="24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2" y="20200"/>
                </a:lnTo>
                <a:close/>
              </a:path>
              <a:path fill="lighten" w="24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2" h="21600">
                <a:moveTo>
                  <a:pt x="12376" y="3837"/>
                </a:moveTo>
                <a:lnTo>
                  <a:pt x="14952" y="6448"/>
                </a:lnTo>
                <a:lnTo>
                  <a:pt x="14952" y="4707"/>
                </a:lnTo>
                <a:lnTo>
                  <a:pt x="16728" y="4707"/>
                </a:lnTo>
                <a:lnTo>
                  <a:pt x="16728" y="8224"/>
                </a:lnTo>
                <a:lnTo>
                  <a:pt x="19339" y="10800"/>
                </a:lnTo>
                <a:lnTo>
                  <a:pt x="17685" y="10800"/>
                </a:lnTo>
                <a:lnTo>
                  <a:pt x="17685" y="17989"/>
                </a:lnTo>
                <a:lnTo>
                  <a:pt x="7067" y="17989"/>
                </a:lnTo>
                <a:lnTo>
                  <a:pt x="7067" y="10800"/>
                </a:lnTo>
                <a:lnTo>
                  <a:pt x="5413" y="10800"/>
                </a:lnTo>
                <a:close/>
              </a:path>
              <a:path fill="darkenLess" w="24752" h="21600">
                <a:moveTo>
                  <a:pt x="14952" y="6448"/>
                </a:moveTo>
                <a:lnTo>
                  <a:pt x="14952" y="4707"/>
                </a:lnTo>
                <a:lnTo>
                  <a:pt x="16728" y="4707"/>
                </a:lnTo>
                <a:lnTo>
                  <a:pt x="16728" y="8224"/>
                </a:lnTo>
                <a:close/>
              </a:path>
              <a:path fill="darkenLess" w="24752" h="21600">
                <a:moveTo>
                  <a:pt x="11453" y="14299"/>
                </a:moveTo>
                <a:lnTo>
                  <a:pt x="13299" y="14299"/>
                </a:lnTo>
                <a:lnTo>
                  <a:pt x="13299" y="17989"/>
                </a:lnTo>
                <a:lnTo>
                  <a:pt x="17685" y="17989"/>
                </a:lnTo>
                <a:lnTo>
                  <a:pt x="17685" y="10800"/>
                </a:lnTo>
                <a:lnTo>
                  <a:pt x="7067" y="10800"/>
                </a:lnTo>
                <a:lnTo>
                  <a:pt x="7067" y="17989"/>
                </a:lnTo>
                <a:lnTo>
                  <a:pt x="11453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едмет инфор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формати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техническая наука, систематизирующая приемы создания, хранения, обработки и передачи информации средствами вычислительной техники, а также принципы функционирования этих средств и методы управления 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ды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700360" y="1413000"/>
            <a:ext cx="4103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826920" y="2924280"/>
            <a:ext cx="338472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Аналог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5076720" y="2852640"/>
            <a:ext cx="345600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ифр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 flipH="1">
            <a:off x="3779640" y="2349360"/>
            <a:ext cx="936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4716360" y="2349360"/>
            <a:ext cx="71928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0920" y="4005360"/>
            <a:ext cx="871380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алогово-цифровое преобразование (АЦП)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образование аналог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нформации в цифров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211640" y="3284640"/>
            <a:ext cx="865080" cy="360360"/>
          </a:xfrm>
          <a:prstGeom prst="rightArrow">
            <a:avLst>
              <a:gd name="adj1" fmla="val 50000"/>
              <a:gd name="adj2" fmla="val 600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>
            <a:hlinkClick r:id="" action="ppaction://hlinkshowjump?jump=nextslide"/>
          </p:cNvPr>
          <p:cNvSpPr/>
          <p:nvPr/>
        </p:nvSpPr>
        <p:spPr>
          <a:xfrm>
            <a:off x="7308720" y="6165720"/>
            <a:ext cx="648000" cy="503280"/>
          </a:xfrm>
          <a:custGeom>
            <a:avLst/>
            <a:gdLst>
              <a:gd name="textAreaLeft" fmla="*/ 32400 w 648000"/>
              <a:gd name="textAreaRight" fmla="*/ 615600 w 648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07" h="21600">
                <a:moveTo>
                  <a:pt x="6897" y="3794"/>
                </a:moveTo>
                <a:lnTo>
                  <a:pt x="20910" y="10800"/>
                </a:lnTo>
                <a:lnTo>
                  <a:pt x="6897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>
            <a:hlinkClick r:id="rId1" action="ppaction://hlinksldjump"/>
          </p:cNvPr>
          <p:cNvSpPr/>
          <p:nvPr/>
        </p:nvSpPr>
        <p:spPr>
          <a:xfrm>
            <a:off x="802800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Хранение цифров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ифров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хранится в виде числового кода, который называется двоич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И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информации, которая выражает логическое значение ДА или НЕТ и обозначается двоичным числом 1 или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т битов к байт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группа из </a:t>
            </a: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восьми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би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обработк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и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жно выразить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56 разных знач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Байт принимает значения от 0 до 25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>
            <a:hlinkClick r:id="" action="ppaction://hlinkshowjump?jump=nextslide"/>
          </p:cNvPr>
          <p:cNvSpPr/>
          <p:nvPr/>
        </p:nvSpPr>
        <p:spPr>
          <a:xfrm>
            <a:off x="752472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>
            <a:hlinkClick r:id="rId1" action="ppaction://hlinksldjump"/>
          </p:cNvPr>
          <p:cNvSpPr/>
          <p:nvPr/>
        </p:nvSpPr>
        <p:spPr>
          <a:xfrm>
            <a:off x="817236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т байтов к файл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ай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хранения информации, содержащая последовательность байтов и имеющая уникальное и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68360" y="4437000"/>
            <a:ext cx="26636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ай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780000" y="4437000"/>
            <a:ext cx="2663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Бай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6732720" y="4292640"/>
            <a:ext cx="2160360" cy="1441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Б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3132000" y="5013360"/>
            <a:ext cx="648000" cy="287280"/>
          </a:xfrm>
          <a:prstGeom prst="rightArrow">
            <a:avLst>
              <a:gd name="adj1" fmla="val 50000"/>
              <a:gd name="adj2" fmla="val 563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6443640" y="501336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9:28:58Z</dcterms:created>
  <dc:creator>Дима</dc:creator>
  <dc:description/>
  <dc:language>en-US</dc:language>
  <cp:lastModifiedBy>LEGION</cp:lastModifiedBy>
  <dcterms:modified xsi:type="dcterms:W3CDTF">2015-04-01T07:21:04Z</dcterms:modified>
  <cp:revision>5</cp:revision>
  <dc:subject/>
  <dc:title>Введение в информатику</dc:title>
</cp:coreProperties>
</file>